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7807-B620-48AE-B266-77379ED6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9453-7FDC-46A7-A575-BB04B977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12E4-FA33-4638-95B6-7232C142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9343-0C6B-4C09-8241-FDD238F36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0F94-CEDA-4859-8616-3BB57A80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60C1-CCE5-42BC-8692-AB299BAD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7735-410D-4C3C-8DC4-E02E5D30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1A38-364D-4271-87CC-636298F1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FDED-594E-49D5-A334-D506C802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7C92-98FD-47C3-AEF8-BA28DEE4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2FA5-0E7D-45F0-AC0C-F2AF10DB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4B67-A534-4500-B9C5-1FC87FB8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8A28-3C54-4171-BF7D-FA42061C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05F6-7CEF-4A50-B237-AC0151DC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9B21-1B44-4EA7-B533-0C45FA0B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E1EE-0CF9-4BA4-AAEA-309FA1E2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FFB8-82BE-4679-BFAE-AD5C13F5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A6F783-66C1-4042-B92D-571506F1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A19F0F-B5D9-4112-9660-DA2F7804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232F64-F783-442A-8C45-E110309E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5253B0-9DBA-42EA-9DDF-F193067D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8F8F89-FBBD-462D-B78C-5E558B53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EB63-05E9-4A40-82F8-48C9D6F4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019CD2-2997-4182-9494-5B4CF53E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89E1D9-0158-4EE3-ACBE-208DB56B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2D8EA-C571-4413-BC78-94985128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FDD194-02D3-4795-A376-1C8DEE2E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74872-2191-4C33-A2DC-48206C75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C1E90-39AC-483B-BB6B-973C77D1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298AFE-A2C5-4E2D-9546-135C0C0A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2378A-C9E1-43EE-AB2D-EABBF265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ED1B3-F352-4FC5-8050-F0CACD6B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D6493-F1CF-4078-A84D-F7EBCDFC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E171-40F7-40FF-9770-0088FC1A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6CBC6-FC13-4553-84B1-5FF2F6DB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7FAE5-3985-4D82-B2AC-155CBFC1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C0669-4032-4368-849F-4F19DBEA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FCFE9-7B67-42BE-BEAB-B8F80F0F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F942E-4D96-4DDF-8576-A7F909E3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2A662-9604-4253-BB1C-0FF62EC3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BF489-EB3B-40DF-972C-160E1A27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72AC5-F765-45A3-8397-86E5F2F9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6FADA-5201-44BC-8E8F-BC513583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B836-C2FD-4F53-B9A0-6052FB93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AED5-3DD5-4B2A-8B35-EE90B198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C5BD-2948-435F-B6A2-7FFDF770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850A-3351-4BBA-8F55-07F6F1F4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7411-F6F4-4E04-8F36-8390F4B2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CC29-BA23-452C-9454-37BF28595518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E2C4-126B-4172-9CA9-351C3C21956B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3D6D-F882-4454-822A-0BFCB301C76A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9376-1726-4025-BF24-74621ACC2E10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HBD Ideas for Proposal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TK Hemmick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0246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Some Photos…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61760" y="4240080"/>
            <a:ext cx="436716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BD readout Plan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otating Tabl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est Frame &amp; Sourc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rcRect l="0" t="23991" r="0" b="5271"/>
          <a:stretch/>
        </p:blipFill>
        <p:spPr>
          <a:xfrm>
            <a:off x="5749920" y="2735280"/>
            <a:ext cx="3218040" cy="3048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"/>
          <p:cNvPicPr/>
          <p:nvPr/>
        </p:nvPicPr>
        <p:blipFill>
          <a:blip r:embed="rId2"/>
          <a:stretch/>
        </p:blipFill>
        <p:spPr>
          <a:xfrm>
            <a:off x="5410080" y="42840"/>
            <a:ext cx="3557880" cy="26575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"/>
          <p:cNvPicPr/>
          <p:nvPr/>
        </p:nvPicPr>
        <p:blipFill>
          <a:blip r:embed="rId3"/>
          <a:srcRect l="-383" t="23007" r="387" b="28374"/>
          <a:stretch/>
        </p:blipFill>
        <p:spPr>
          <a:xfrm>
            <a:off x="838080" y="1371600"/>
            <a:ext cx="35053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42440" y="304560"/>
            <a:ext cx="702468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Today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96800" y="48765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BD on the table looking at </a:t>
            </a:r>
            <a:r>
              <a:rPr b="0" lang="en-US" sz="2400" spc="-1" strike="noStrike" baseline="30000">
                <a:solidFill>
                  <a:srgbClr val="3e3d2d"/>
                </a:solidFill>
                <a:latin typeface="Century Gothic"/>
              </a:rPr>
              <a:t>55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4 Trackers roughly aligned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2 PbGl as the famous “TCal” (named for Shape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rcRect l="0" t="26378" r="0" b="40444"/>
          <a:stretch/>
        </p:blipFill>
        <p:spPr>
          <a:xfrm>
            <a:off x="533520" y="1143000"/>
            <a:ext cx="78483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024680" cy="8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ssues To Dat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914040" y="167616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Diffusion is very low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ard to hit multiple readout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Anything to be done (He???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IRROR from industry is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ATE (nearly 3 weeks)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Expensive:  $5500 @ 7” radius.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ossible BIG R&amp;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990360" y="182844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arge mirror work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pectra Thin Films Company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ig Mac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rice unknown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9:27:14Z</dcterms:created>
  <dc:creator>Thomas K Hemmick</dc:creator>
  <dc:description/>
  <dc:language>en-US</dc:language>
  <cp:lastModifiedBy>Thomas K Hemmick</cp:lastModifiedBy>
  <dcterms:modified xsi:type="dcterms:W3CDTF">2012-03-26T20:04:48Z</dcterms:modified>
  <cp:revision>3</cp:revision>
  <dc:subject/>
  <dc:title>HBD Ideas for Proposal</dc:title>
</cp:coreProperties>
</file>